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4.png" ContentType="image/png"/>
  <Override PartName="/ppt/media/image6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28.wmf" ContentType="image/x-wmf"/>
  <Override PartName="/ppt/media/image30.wmf" ContentType="image/x-wmf"/>
  <Override PartName="/ppt/media/image27.png" ContentType="image/png"/>
  <Override PartName="/ppt/media/image16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wmf" ContentType="image/x-wmf"/>
  <Override PartName="/ppt/media/image21.png" ContentType="image/png"/>
  <Override PartName="/ppt/media/image58.png" ContentType="image/png"/>
  <Override PartName="/ppt/media/image13.jpeg" ContentType="image/jpeg"/>
  <Override PartName="/ppt/media/image23.png" ContentType="image/png"/>
  <Override PartName="/ppt/media/image20.jpeg" ContentType="image/jpeg"/>
  <Override PartName="/ppt/media/image59.wmf" ContentType="image/x-wmf"/>
  <Override PartName="/ppt/media/image24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29.png" ContentType="image/png"/>
  <Override PartName="/ppt/media/image32.wmf" ContentType="image/x-wmf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34.wmf" ContentType="image/x-wmf"/>
  <Override PartName="/ppt/media/image40.png" ContentType="image/png"/>
  <Override PartName="/ppt/media/image41.png" ContentType="image/png"/>
  <Override PartName="/ppt/media/image43.png" ContentType="image/png"/>
  <Override PartName="/ppt/media/image57.jpeg" ContentType="image/jpeg"/>
  <Override PartName="/ppt/media/image44.wmf" ContentType="image/x-wmf"/>
  <Override PartName="/ppt/media/image45.png" ContentType="image/png"/>
  <Override PartName="/ppt/media/image46.png" ContentType="image/png"/>
  <Override PartName="/ppt/media/image49.wmf" ContentType="image/x-wmf"/>
  <Override PartName="/ppt/media/image50.png" ContentType="image/png"/>
  <Override PartName="/ppt/media/image52.png" ContentType="image/png"/>
  <Override PartName="/ppt/media/image56.jpeg" ContentType="image/jpeg"/>
  <Override PartName="/ppt/media/image5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08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8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hyperlink" Target="file:///10Math_A2_CR08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8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8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8–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www.glencoe.com/apps/eGlossary612/grade.php" TargetMode="External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46.png"/><Relationship Id="rId4" Type="http://schemas.openxmlformats.org/officeDocument/2006/relationships/image" Target="../media/image43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5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4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4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43.png"/><Relationship Id="rId4" Type="http://schemas.openxmlformats.org/officeDocument/2006/relationships/image" Target="../media/image13.jpe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8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rcRect l="11673" t="55591" r="54990" b="14409"/>
          <a:stretch/>
        </p:blipFill>
        <p:spPr>
          <a:xfrm>
            <a:off x="3429000" y="380988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430524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812880" y="18288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oga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12880" y="247644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f Bas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glossary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181480"/>
            <a:ext cx="1647720" cy="7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Find Common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76240" y="150336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Use a calculator to evaluate log 6 to the nearest 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about 0.7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33520" y="2816280"/>
            <a:ext cx="7999200" cy="449640"/>
            <a:chOff x="533520" y="2816280"/>
            <a:chExt cx="7999200" cy="449640"/>
          </a:xfrm>
        </p:grpSpPr>
        <p:sp>
          <p:nvSpPr>
            <p:cNvPr id="562" name=""/>
            <p:cNvSpPr/>
            <p:nvPr/>
          </p:nvSpPr>
          <p:spPr>
            <a:xfrm>
              <a:off x="533520" y="2835000"/>
              <a:ext cx="2309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Keystrokes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08360" y="2816280"/>
              <a:ext cx="137160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08360" y="2824200"/>
              <a:ext cx="101124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32360" y="2841480"/>
              <a:ext cx="684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1640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27640" y="2842920"/>
              <a:ext cx="23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1640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77815125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Find Common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76240" y="150336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Use a calculator to evaluate log 0.35 to the nearest 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about –0.45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33520" y="2892600"/>
            <a:ext cx="7999200" cy="449640"/>
            <a:chOff x="533520" y="2892600"/>
            <a:chExt cx="7999200" cy="449640"/>
          </a:xfrm>
        </p:grpSpPr>
        <p:sp>
          <p:nvSpPr>
            <p:cNvPr id="572" name=""/>
            <p:cNvSpPr/>
            <p:nvPr/>
          </p:nvSpPr>
          <p:spPr>
            <a:xfrm>
              <a:off x="533520" y="2911320"/>
              <a:ext cx="2309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Keystrokes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08360" y="2892600"/>
              <a:ext cx="137160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08360" y="2900520"/>
              <a:ext cx="1011240" cy="4230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87640" y="2917800"/>
              <a:ext cx="68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1640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27640" y="2919240"/>
              <a:ext cx="23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1640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45593195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TPAnswers"/>
          <p:cNvSpPr/>
          <p:nvPr/>
        </p:nvSpPr>
        <p:spPr>
          <a:xfrm>
            <a:off x="857160" y="202896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3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6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0,000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PQuestion"/>
          <p:cNvSpPr/>
          <p:nvPr/>
        </p:nvSpPr>
        <p:spPr>
          <a:xfrm>
            <a:off x="476280" y="1285920"/>
            <a:ext cx="835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hich value is approximately equivalent to log 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38080" y="29242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TPAnswers"/>
          <p:cNvSpPr/>
          <p:nvPr/>
        </p:nvSpPr>
        <p:spPr>
          <a:xfrm>
            <a:off x="857160" y="24890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0.20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6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20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16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PQuestion"/>
          <p:cNvSpPr/>
          <p:nvPr/>
        </p:nvSpPr>
        <p:spPr>
          <a:xfrm>
            <a:off x="476280" y="1285920"/>
            <a:ext cx="8667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Which value is approximately equivalent to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log 0.6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47800" y="24670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Logarithm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909720" y="5105520"/>
            <a:ext cx="7119720" cy="1095120"/>
            <a:chOff x="909720" y="5105520"/>
            <a:chExt cx="7119720" cy="1095120"/>
          </a:xfrm>
        </p:grpSpPr>
        <p:pic>
          <p:nvPicPr>
            <p:cNvPr id="598" name="" descr=""/>
            <p:cNvPicPr/>
            <p:nvPr/>
          </p:nvPicPr>
          <p:blipFill>
            <a:blip r:embed="rId1"/>
            <a:srcRect l="0" t="-1138" r="62863" b="75731"/>
            <a:stretch/>
          </p:blipFill>
          <p:spPr>
            <a:xfrm>
              <a:off x="909720" y="5181480"/>
              <a:ext cx="129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829040" y="5400720"/>
              <a:ext cx="3200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2"/>
            <a:srcRect l="37012" t="-3261" r="52563" b="75731"/>
            <a:stretch/>
          </p:blipFill>
          <p:spPr>
            <a:xfrm>
              <a:off x="2257560" y="5105520"/>
              <a:ext cx="3650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3"/>
            <a:srcRect l="47897" t="-3261" r="39050" b="73614"/>
            <a:stretch/>
          </p:blipFill>
          <p:spPr>
            <a:xfrm>
              <a:off x="2682720" y="5133960"/>
              <a:ext cx="4572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2" name=""/>
          <p:cNvGrpSpPr/>
          <p:nvPr/>
        </p:nvGrpSpPr>
        <p:grpSpPr>
          <a:xfrm>
            <a:off x="876240" y="1503360"/>
            <a:ext cx="7705800" cy="2890080"/>
            <a:chOff x="876240" y="1503360"/>
            <a:chExt cx="7705800" cy="2890080"/>
          </a:xfrm>
        </p:grpSpPr>
        <p:sp>
          <p:nvSpPr>
            <p:cNvPr id="603" name=""/>
            <p:cNvSpPr/>
            <p:nvPr/>
          </p:nvSpPr>
          <p:spPr>
            <a:xfrm>
              <a:off x="876240" y="1503360"/>
              <a:ext cx="7705800" cy="28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JET ENGINES 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The loudness </a:t>
              </a:r>
              <a:r>
                <a:rPr b="0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L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, in decibels, of a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und is                        where </a:t>
              </a:r>
              <a:r>
                <a:rPr b="0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I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s the intensity of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the sound and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s the minimum intensity of sound detectable by the human ear. The sound of a jet engine can reach a loudness of 125 decibels. How many times the minimum intensity of audible sound is this, if </a:t>
              </a:r>
              <a:r>
                <a:rPr b="0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s defined to be 1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4"/>
            <a:srcRect l="72620" t="0" r="0" b="0"/>
            <a:stretch/>
          </p:blipFill>
          <p:spPr>
            <a:xfrm>
              <a:off x="3701880" y="1897200"/>
              <a:ext cx="48600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5"/>
            <a:srcRect l="0" t="0" r="29420" b="-5362"/>
            <a:stretch/>
          </p:blipFill>
          <p:spPr>
            <a:xfrm>
              <a:off x="2266920" y="1920960"/>
              <a:ext cx="143208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Logarithm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909720" y="3421080"/>
            <a:ext cx="7548480" cy="475200"/>
            <a:chOff x="909720" y="3421080"/>
            <a:chExt cx="7548480" cy="475200"/>
          </a:xfrm>
        </p:grpSpPr>
        <p:sp>
          <p:nvSpPr>
            <p:cNvPr id="609" name=""/>
            <p:cNvSpPr/>
            <p:nvPr/>
          </p:nvSpPr>
          <p:spPr>
            <a:xfrm>
              <a:off x="4829040" y="3473280"/>
              <a:ext cx="3629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nential 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0" name="" descr=""/>
            <p:cNvPicPr/>
            <p:nvPr/>
          </p:nvPicPr>
          <p:blipFill>
            <a:blip r:embed="rId1"/>
            <a:srcRect l="0" t="69911" r="0" b="17209"/>
            <a:stretch/>
          </p:blipFill>
          <p:spPr>
            <a:xfrm>
              <a:off x="909720" y="3421080"/>
              <a:ext cx="3500280" cy="4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"/>
          <p:cNvSpPr/>
          <p:nvPr/>
        </p:nvSpPr>
        <p:spPr>
          <a:xfrm>
            <a:off x="533520" y="4762440"/>
            <a:ext cx="7429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sound of a jet engine is approximately 3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  <a:ea typeface="Arial"/>
              </a:rPr>
              <a:t>12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 or 3 trillion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times the minimum intensity of sound detectable by the human 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314360" y="4105440"/>
            <a:ext cx="7143840" cy="459720"/>
            <a:chOff x="1314360" y="4105440"/>
            <a:chExt cx="7143840" cy="459720"/>
          </a:xfrm>
        </p:grpSpPr>
        <p:sp>
          <p:nvSpPr>
            <p:cNvPr id="613" name=""/>
            <p:cNvSpPr/>
            <p:nvPr/>
          </p:nvSpPr>
          <p:spPr>
            <a:xfrm>
              <a:off x="4829040" y="4105440"/>
              <a:ext cx="3629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calcul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14360" y="410544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3.16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 10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990720" y="1333440"/>
            <a:ext cx="7467480" cy="894960"/>
            <a:chOff x="990720" y="1333440"/>
            <a:chExt cx="7467480" cy="894960"/>
          </a:xfrm>
        </p:grpSpPr>
        <p:sp>
          <p:nvSpPr>
            <p:cNvPr id="616" name=""/>
            <p:cNvSpPr/>
            <p:nvPr/>
          </p:nvSpPr>
          <p:spPr>
            <a:xfrm>
              <a:off x="4829040" y="1476360"/>
              <a:ext cx="3629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125 and 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" descr=""/>
            <p:cNvPicPr/>
            <p:nvPr/>
          </p:nvPicPr>
          <p:blipFill>
            <a:blip r:embed="rId2"/>
            <a:srcRect l="0" t="0" r="0" b="34908"/>
            <a:stretch/>
          </p:blipFill>
          <p:spPr>
            <a:xfrm>
              <a:off x="990720" y="1333440"/>
              <a:ext cx="211140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8" name=""/>
          <p:cNvGrpSpPr/>
          <p:nvPr/>
        </p:nvGrpSpPr>
        <p:grpSpPr>
          <a:xfrm>
            <a:off x="914400" y="2428920"/>
            <a:ext cx="7543800" cy="801360"/>
            <a:chOff x="914400" y="2428920"/>
            <a:chExt cx="7543800" cy="801360"/>
          </a:xfrm>
        </p:grpSpPr>
        <p:sp>
          <p:nvSpPr>
            <p:cNvPr id="619" name=""/>
            <p:cNvSpPr/>
            <p:nvPr/>
          </p:nvSpPr>
          <p:spPr>
            <a:xfrm>
              <a:off x="4829040" y="2478240"/>
              <a:ext cx="3629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vide each side by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 and 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rcRect l="0" t="58586" r="0" b="0"/>
            <a:stretch/>
          </p:blipFill>
          <p:spPr>
            <a:xfrm>
              <a:off x="914400" y="2428920"/>
              <a:ext cx="21114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TPChart"/>
          <p:cNvGraphicFramePr/>
          <p:nvPr/>
        </p:nvGraphicFramePr>
        <p:xfrm>
          <a:off x="7316640" y="4572000"/>
          <a:ext cx="1513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6640" y="4572000"/>
                    <a:ext cx="1513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TPAnswers"/>
          <p:cNvSpPr/>
          <p:nvPr/>
        </p:nvSpPr>
        <p:spPr>
          <a:xfrm>
            <a:off x="857160" y="4775040"/>
            <a:ext cx="5924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585,000,000 times the minimum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629,000,000 times the minimum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912,000,000 times the minimum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,788,000,000 times the minimum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76280" y="1285920"/>
            <a:ext cx="8020080" cy="3384360"/>
            <a:chOff x="476280" y="1285920"/>
            <a:chExt cx="8020080" cy="3384360"/>
          </a:xfrm>
        </p:grpSpPr>
        <p:pic>
          <p:nvPicPr>
            <p:cNvPr id="627" name="" descr=""/>
            <p:cNvPicPr/>
            <p:nvPr/>
          </p:nvPicPr>
          <p:blipFill>
            <a:blip r:embed="rId3"/>
            <a:stretch/>
          </p:blipFill>
          <p:spPr>
            <a:xfrm>
              <a:off x="2266920" y="1762200"/>
              <a:ext cx="17733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PQuestion"/>
            <p:cNvSpPr/>
            <p:nvPr/>
          </p:nvSpPr>
          <p:spPr>
            <a:xfrm>
              <a:off x="476280" y="1285920"/>
              <a:ext cx="802008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c1d24"/>
                  </a:solidFill>
                  <a:latin typeface="Arial"/>
                  <a:ea typeface="Times New Roman"/>
                </a:rPr>
                <a:t>DEMOLITION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The loudness </a:t>
              </a:r>
              <a:r>
                <a:rPr b="0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L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, in decibels, of a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und is                       where </a:t>
              </a:r>
              <a:r>
                <a:rPr b="0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I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s the intensity of the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und and </a:t>
              </a:r>
              <a:r>
                <a:rPr b="0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s the minimum intensity of sound detectable by the human ear. Refer to Example 2. The sound of the demolition of an old building can reach a loudness of 92 decibels. How many times the minimum intensity of audible sound is this, if 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s defined to be 1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847800" y="4762440"/>
            <a:ext cx="390600" cy="3906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4"/>
          <a:stretch/>
        </p:blipFill>
        <p:spPr>
          <a:xfrm>
            <a:off x="4267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Exponential Equations Using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20800" y="137160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5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62. Round to the nearest 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57200" y="2001960"/>
            <a:ext cx="77835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0" indent="-42289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r" pos="1542960"/>
                <a:tab algn="l" pos="1657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0" indent="-42289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r" pos="1542960"/>
                <a:tab algn="l" pos="1657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5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og 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of Equality for 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0" indent="-42289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r" pos="1542960"/>
                <a:tab algn="l" pos="1657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og 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Property of 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7720" y="56610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about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2.5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5135400"/>
            <a:ext cx="7783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0" indent="-42289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r" pos="1542960"/>
                <a:tab algn="l" pos="1657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.56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911240" y="4181400"/>
            <a:ext cx="6853320" cy="847800"/>
            <a:chOff x="1911240" y="4181400"/>
            <a:chExt cx="6853320" cy="847800"/>
          </a:xfrm>
        </p:grpSpPr>
        <p:sp>
          <p:nvSpPr>
            <p:cNvPr id="639" name=""/>
            <p:cNvSpPr/>
            <p:nvPr/>
          </p:nvSpPr>
          <p:spPr>
            <a:xfrm>
              <a:off x="5032440" y="4354560"/>
              <a:ext cx="3732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spcAft>
                  <a:spcPts val="901"/>
                </a:spcAft>
                <a:tabLst>
                  <a:tab algn="l" pos="0"/>
                  <a:tab algn="r" pos="1542960"/>
                  <a:tab algn="l" pos="165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vide each side by log 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" descr=""/>
            <p:cNvPicPr/>
            <p:nvPr/>
          </p:nvPicPr>
          <p:blipFill>
            <a:blip r:embed="rId1"/>
            <a:stretch/>
          </p:blipFill>
          <p:spPr>
            <a:xfrm>
              <a:off x="1911240" y="4181400"/>
              <a:ext cx="151776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Exponential Equations Using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2120" y="1503360"/>
            <a:ext cx="8016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can check this answer by using a calculator or by using estimation. Since 5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5 and 5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125,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between 2 and 3. Thus, 2.5643 is a reasonable solution. </a:t>
            </a: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8–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New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Example 1:	Find Common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2:	Real-World Example: Solve Logarithm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3:	Solve Exponential Equations Using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Example 4:	Solve Exponential Inequalities Using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Key Concept:  Change of Bas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9" action="ppaction://hlinksldjump"/>
              </a:rPr>
              <a:t>Example 5:	Change of Bas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TPAnswers"/>
          <p:cNvSpPr/>
          <p:nvPr/>
        </p:nvSpPr>
        <p:spPr>
          <a:xfrm>
            <a:off x="857160" y="202896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0.38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5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.6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PQuestion"/>
          <p:cNvSpPr/>
          <p:nvPr/>
        </p:nvSpPr>
        <p:spPr>
          <a:xfrm>
            <a:off x="476280" y="128592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hat is the solution to the equation 3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1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57160" y="38768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Exponential Inequalities Using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33320" y="1600200"/>
            <a:ext cx="8029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3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7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&gt; 2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 – 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 Round to the nearest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80880" y="2590920"/>
            <a:ext cx="8323560" cy="72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9480" indent="-548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2857680"/>
                <a:tab algn="l" pos="2971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29480" indent="-548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2857680"/>
                <a:tab algn="l" pos="2971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log 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 baseline="4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of Inequality for Logarithm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29480" indent="-548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2857680"/>
                <a:tab algn="l" pos="2971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) log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Property of 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Exponential Inequalities Using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0880" y="1843200"/>
            <a:ext cx="832356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9480" indent="-548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2857680"/>
                <a:tab algn="l" pos="2971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 2 – 3 log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29480" indent="-548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2857680"/>
                <a:tab algn="l" pos="2971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 3 – 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– 3 log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 2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33320" y="3886200"/>
            <a:ext cx="8016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785400" indent="-3785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9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7 log 3 – 5 log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gt; –3 log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33320" y="5141880"/>
            <a:ext cx="8016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827320" indent="-5827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gt; –0.4922                              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Exponential Inequalities Using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833480" y="3276720"/>
            <a:ext cx="6853320" cy="922320"/>
            <a:chOff x="1833480" y="3276720"/>
            <a:chExt cx="6853320" cy="922320"/>
          </a:xfrm>
        </p:grpSpPr>
        <p:sp>
          <p:nvSpPr>
            <p:cNvPr id="665" name=""/>
            <p:cNvSpPr/>
            <p:nvPr/>
          </p:nvSpPr>
          <p:spPr>
            <a:xfrm>
              <a:off x="5508720" y="3354480"/>
              <a:ext cx="3178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calcul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" descr=""/>
            <p:cNvPicPr/>
            <p:nvPr/>
          </p:nvPicPr>
          <p:blipFill>
            <a:blip r:embed="rId1"/>
            <a:srcRect l="0" t="50816" r="0" b="0"/>
            <a:stretch/>
          </p:blipFill>
          <p:spPr>
            <a:xfrm>
              <a:off x="1833480" y="3276720"/>
              <a:ext cx="350064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7" name=""/>
          <p:cNvGrpSpPr/>
          <p:nvPr/>
        </p:nvGrpSpPr>
        <p:grpSpPr>
          <a:xfrm>
            <a:off x="1843200" y="1600200"/>
            <a:ext cx="6910200" cy="849240"/>
            <a:chOff x="1843200" y="1600200"/>
            <a:chExt cx="6910200" cy="849240"/>
          </a:xfrm>
        </p:grpSpPr>
        <p:sp>
          <p:nvSpPr>
            <p:cNvPr id="668" name=""/>
            <p:cNvSpPr/>
            <p:nvPr/>
          </p:nvSpPr>
          <p:spPr>
            <a:xfrm>
              <a:off x="5477040" y="1670040"/>
              <a:ext cx="3276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vide each side by 7 log 3 – 5 log 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9" name="" descr=""/>
            <p:cNvPicPr/>
            <p:nvPr/>
          </p:nvPicPr>
          <p:blipFill>
            <a:blip r:embed="rId2"/>
            <a:stretch/>
          </p:blipFill>
          <p:spPr>
            <a:xfrm>
              <a:off x="1843200" y="1600200"/>
              <a:ext cx="2970000" cy="84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Exponential Inequalities Using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3040" y="1486080"/>
            <a:ext cx="7705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hec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99960" y="2176560"/>
            <a:ext cx="8077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7840" indent="-4514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486080"/>
                <a:tab algn="l" pos="160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 baseline="40000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 baseline="40000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9960" y="52117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solution set is {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&gt; –0.4922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99960" y="2706840"/>
            <a:ext cx="8076960" cy="866520"/>
            <a:chOff x="399960" y="2706840"/>
            <a:chExt cx="8076960" cy="866520"/>
          </a:xfrm>
        </p:grpSpPr>
        <p:sp>
          <p:nvSpPr>
            <p:cNvPr id="676" name=""/>
            <p:cNvSpPr/>
            <p:nvPr/>
          </p:nvSpPr>
          <p:spPr>
            <a:xfrm>
              <a:off x="2025360" y="2706840"/>
              <a:ext cx="36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9960" y="2821320"/>
              <a:ext cx="80769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857840" indent="-451476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1486080"/>
                  <a:tab algn="l" pos="1600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7(</a:t>
              </a:r>
              <a:r>
                <a:rPr b="0" lang="en-US" sz="2400" spc="-1" strike="noStrike" baseline="40000">
                  <a:solidFill>
                    <a:srgbClr val="e01b22"/>
                  </a:solidFill>
                  <a:latin typeface="Arial"/>
                </a:rPr>
                <a:t>0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gt; 2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 baseline="40000">
                  <a:solidFill>
                    <a:srgbClr val="e01b22"/>
                  </a:solidFill>
                  <a:latin typeface="Arial"/>
                </a:rPr>
                <a:t>0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 –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399960" y="3294000"/>
            <a:ext cx="8076960" cy="540360"/>
            <a:chOff x="399960" y="3294000"/>
            <a:chExt cx="8076960" cy="540360"/>
          </a:xfrm>
        </p:grpSpPr>
        <p:sp>
          <p:nvSpPr>
            <p:cNvPr id="679" name=""/>
            <p:cNvSpPr/>
            <p:nvPr/>
          </p:nvSpPr>
          <p:spPr>
            <a:xfrm>
              <a:off x="2025360" y="3294000"/>
              <a:ext cx="36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9960" y="3411360"/>
              <a:ext cx="8076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857840" indent="-451476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1486080"/>
                  <a:tab algn="l" pos="1600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gt; 2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828800" y="3876840"/>
            <a:ext cx="6678720" cy="923400"/>
            <a:chOff x="1828800" y="3876840"/>
            <a:chExt cx="6678720" cy="923400"/>
          </a:xfrm>
        </p:grpSpPr>
        <p:sp>
          <p:nvSpPr>
            <p:cNvPr id="682" name=""/>
            <p:cNvSpPr/>
            <p:nvPr/>
          </p:nvSpPr>
          <p:spPr>
            <a:xfrm>
              <a:off x="5194440" y="4048200"/>
              <a:ext cx="331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gative Exponent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09560" y="4095720"/>
              <a:ext cx="433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01b22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4" name="" descr=""/>
            <p:cNvPicPr/>
            <p:nvPr/>
          </p:nvPicPr>
          <p:blipFill>
            <a:blip r:embed="rId1"/>
            <a:stretch/>
          </p:blipFill>
          <p:spPr>
            <a:xfrm>
              <a:off x="1828800" y="3876840"/>
              <a:ext cx="731880" cy="787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PAnswers"/>
          <p:cNvSpPr/>
          <p:nvPr/>
        </p:nvSpPr>
        <p:spPr>
          <a:xfrm>
            <a:off x="857160" y="2028960"/>
            <a:ext cx="508644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–1.823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0.9538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–0.9538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–1.823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PQuestion"/>
          <p:cNvSpPr/>
          <p:nvPr/>
        </p:nvSpPr>
        <p:spPr>
          <a:xfrm>
            <a:off x="476280" y="128592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hat is the solution to 5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&lt; 10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 –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38080" y="48099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6208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6603840" y="5354640"/>
            <a:ext cx="2000520" cy="74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Change of Bas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76240" y="1503360"/>
            <a:ext cx="77058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xpress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140 in terms of common logarithms. Then round to the nearest 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520" y="4781520"/>
            <a:ext cx="8229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value of log</a:t>
            </a:r>
            <a:r>
              <a:rPr b="0" lang="en-US" sz="2400" spc="-1" strike="noStrike" baseline="-25000">
                <a:solidFill>
                  <a:srgbClr val="e01b22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140 is approximately 3.07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11160" y="3933720"/>
            <a:ext cx="7699320" cy="496800"/>
            <a:chOff x="911160" y="3933720"/>
            <a:chExt cx="7699320" cy="496800"/>
          </a:xfrm>
        </p:grpSpPr>
        <p:pic>
          <p:nvPicPr>
            <p:cNvPr id="702" name="" descr=""/>
            <p:cNvPicPr/>
            <p:nvPr/>
          </p:nvPicPr>
          <p:blipFill>
            <a:blip r:embed="rId1"/>
            <a:srcRect l="0" t="67438" r="0" b="0"/>
            <a:stretch/>
          </p:blipFill>
          <p:spPr>
            <a:xfrm>
              <a:off x="911160" y="3933720"/>
              <a:ext cx="26416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48000" y="3966840"/>
              <a:ext cx="436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calcul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911160" y="2602080"/>
            <a:ext cx="7699320" cy="982440"/>
            <a:chOff x="911160" y="2602080"/>
            <a:chExt cx="7699320" cy="982440"/>
          </a:xfrm>
        </p:grpSpPr>
        <p:pic>
          <p:nvPicPr>
            <p:cNvPr id="705" name="" descr=""/>
            <p:cNvPicPr/>
            <p:nvPr/>
          </p:nvPicPr>
          <p:blipFill>
            <a:blip r:embed="rId2"/>
            <a:srcRect l="0" t="0" r="0" b="35601"/>
            <a:stretch/>
          </p:blipFill>
          <p:spPr>
            <a:xfrm>
              <a:off x="911160" y="2602080"/>
              <a:ext cx="264168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248000" y="2789280"/>
              <a:ext cx="436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nge of Base Formu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TPQuestion"/>
          <p:cNvSpPr/>
          <p:nvPr/>
        </p:nvSpPr>
        <p:spPr>
          <a:xfrm>
            <a:off x="476280" y="1285920"/>
            <a:ext cx="84200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hat is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16 expressed in terms of common logarith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14" name=""/>
          <p:cNvGrpSpPr/>
          <p:nvPr/>
        </p:nvGrpSpPr>
        <p:grpSpPr>
          <a:xfrm>
            <a:off x="857160" y="2400480"/>
            <a:ext cx="2997360" cy="3657600"/>
            <a:chOff x="857160" y="2400480"/>
            <a:chExt cx="2997360" cy="3657600"/>
          </a:xfrm>
        </p:grpSpPr>
        <p:sp>
          <p:nvSpPr>
            <p:cNvPr id="715" name="TPAnswers"/>
            <p:cNvSpPr/>
            <p:nvPr/>
          </p:nvSpPr>
          <p:spPr>
            <a:xfrm>
              <a:off x="857160" y="258120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" descr=""/>
            <p:cNvPicPr/>
            <p:nvPr/>
          </p:nvPicPr>
          <p:blipFill>
            <a:blip r:embed="rId5"/>
            <a:srcRect l="0" t="77374" r="0" b="0"/>
            <a:stretch/>
          </p:blipFill>
          <p:spPr>
            <a:xfrm>
              <a:off x="1511280" y="5145120"/>
              <a:ext cx="234324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6"/>
            <a:srcRect l="0" t="49708" r="0" b="25305"/>
            <a:stretch/>
          </p:blipFill>
          <p:spPr>
            <a:xfrm>
              <a:off x="1511280" y="4152960"/>
              <a:ext cx="23432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7"/>
            <a:srcRect l="0" t="26485" r="0" b="52977"/>
            <a:stretch/>
          </p:blipFill>
          <p:spPr>
            <a:xfrm>
              <a:off x="1511280" y="3341520"/>
              <a:ext cx="234324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8"/>
            <a:srcRect l="0" t="0" r="0" b="77061"/>
            <a:stretch/>
          </p:blipFill>
          <p:spPr>
            <a:xfrm>
              <a:off x="1511280" y="2400480"/>
              <a:ext cx="2343240" cy="92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0" name=""/>
          <p:cNvSpPr/>
          <p:nvPr/>
        </p:nvSpPr>
        <p:spPr>
          <a:xfrm>
            <a:off x="857160" y="25621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TPAnswers"/>
          <p:cNvSpPr/>
          <p:nvPr/>
        </p:nvSpPr>
        <p:spPr>
          <a:xfrm>
            <a:off x="1066680" y="27176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9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38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15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PQuestion"/>
          <p:cNvSpPr/>
          <p:nvPr/>
        </p:nvSpPr>
        <p:spPr>
          <a:xfrm>
            <a:off x="685800" y="1657440"/>
            <a:ext cx="802008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Us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4 ≈ 1.2619 and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8 ≈ 1.8928 to approximate the value of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46609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PAnswers"/>
          <p:cNvSpPr/>
          <p:nvPr/>
        </p:nvSpPr>
        <p:spPr>
          <a:xfrm>
            <a:off x="1066680" y="279396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0.63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15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3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buClr>
                <a:srgbClr val="00539d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47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287172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685800" y="1657440"/>
            <a:ext cx="8020080" cy="960480"/>
            <a:chOff x="685800" y="1657440"/>
            <a:chExt cx="8020080" cy="960480"/>
          </a:xfrm>
        </p:grpSpPr>
        <p:sp>
          <p:nvSpPr>
            <p:cNvPr id="501" name="TPQuestion"/>
            <p:cNvSpPr/>
            <p:nvPr/>
          </p:nvSpPr>
          <p:spPr>
            <a:xfrm>
              <a:off x="685800" y="1657440"/>
              <a:ext cx="802008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Use log</a:t>
              </a:r>
              <a:r>
                <a:rPr b="1" lang="en-US" sz="2400" spc="-1" strike="noStrike" baseline="-25000">
                  <a:solidFill>
                    <a:srgbClr val="00539d"/>
                  </a:solidFill>
                  <a:latin typeface="Arial"/>
                  <a:ea typeface="Times New Roman"/>
                </a:rPr>
                <a:t>3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4 ≈ 1.2619 and log</a:t>
              </a:r>
              <a:r>
                <a:rPr b="1" lang="en-US" sz="2400" spc="-1" strike="noStrike" baseline="-25000">
                  <a:solidFill>
                    <a:srgbClr val="00539d"/>
                  </a:solidFill>
                  <a:latin typeface="Arial"/>
                  <a:ea typeface="Times New Roman"/>
                </a:rPr>
                <a:t>3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8 ≈ 1.8928 to approximate the value of log</a:t>
              </a:r>
              <a:r>
                <a:rPr b="1" lang="en-US" sz="2400" spc="-1" strike="noStrike" baseline="-25000">
                  <a:solidFill>
                    <a:srgbClr val="00539d"/>
                  </a:solidFill>
                  <a:latin typeface="Arial"/>
                  <a:ea typeface="Times New Roman"/>
                </a:rPr>
                <a:t>3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410080" y="1943280"/>
              <a:ext cx="533520" cy="674640"/>
              <a:chOff x="5410080" y="1943280"/>
              <a:chExt cx="533520" cy="674640"/>
            </a:xfrm>
          </p:grpSpPr>
          <p:sp>
            <p:nvSpPr>
              <p:cNvPr id="503" name=""/>
              <p:cNvSpPr/>
              <p:nvPr/>
            </p:nvSpPr>
            <p:spPr>
              <a:xfrm>
                <a:off x="5410080" y="19494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39d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38880" y="194328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39d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38880" y="22496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39d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6 + 3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33926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4) +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529740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33926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29" name=""/>
          <p:cNvGrpSpPr/>
          <p:nvPr/>
        </p:nvGrpSpPr>
        <p:grpSpPr>
          <a:xfrm>
            <a:off x="685800" y="1542960"/>
            <a:ext cx="8020080" cy="700200"/>
            <a:chOff x="685800" y="1542960"/>
            <a:chExt cx="8020080" cy="700200"/>
          </a:xfrm>
        </p:grpSpPr>
        <p:sp>
          <p:nvSpPr>
            <p:cNvPr id="530" name="TPQuestion"/>
            <p:cNvSpPr/>
            <p:nvPr/>
          </p:nvSpPr>
          <p:spPr>
            <a:xfrm>
              <a:off x="685800" y="1657440"/>
              <a:ext cx="80200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 log</a:t>
              </a:r>
              <a:r>
                <a:rPr b="1" lang="en-US" sz="2400" spc="-1" strike="noStrike" baseline="-25000">
                  <a:solidFill>
                    <a:srgbClr val="00539d"/>
                  </a:solidFill>
                  <a:latin typeface="Arial"/>
                  <a:ea typeface="Times New Roman"/>
                </a:rPr>
                <a:t>6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16 – 2 log</a:t>
              </a:r>
              <a:r>
                <a:rPr b="1" lang="en-US" sz="2400" spc="-1" strike="noStrike" baseline="-25000">
                  <a:solidFill>
                    <a:srgbClr val="00539d"/>
                  </a:solidFill>
                  <a:latin typeface="Arial"/>
                  <a:ea typeface="Times New Roman"/>
                </a:rPr>
                <a:t>6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4 = log</a:t>
              </a:r>
              <a:r>
                <a:rPr b="1" lang="en-US" sz="2400" spc="-1" strike="noStrike" baseline="-25000">
                  <a:solidFill>
                    <a:srgbClr val="00539d"/>
                  </a:solidFill>
                  <a:latin typeface="Arial"/>
                  <a:ea typeface="Times New Roman"/>
                </a:rPr>
                <a:t>6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(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x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+ 1) + log</a:t>
              </a:r>
              <a:r>
                <a:rPr b="1" lang="en-US" sz="2400" spc="-1" strike="noStrike" baseline="-25000">
                  <a:solidFill>
                    <a:srgbClr val="00539d"/>
                  </a:solidFill>
                  <a:latin typeface="Arial"/>
                  <a:ea typeface="Times New Roman"/>
                </a:rPr>
                <a:t>6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7264440" y="1542960"/>
              <a:ext cx="533520" cy="700200"/>
              <a:chOff x="7264440" y="1542960"/>
              <a:chExt cx="533520" cy="700200"/>
            </a:xfrm>
          </p:grpSpPr>
          <p:sp>
            <p:nvSpPr>
              <p:cNvPr id="532" name=""/>
              <p:cNvSpPr/>
              <p:nvPr/>
            </p:nvSpPr>
            <p:spPr>
              <a:xfrm>
                <a:off x="7264440" y="15717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39d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292880" y="1542960"/>
                <a:ext cx="4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39d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92880" y="1874880"/>
                <a:ext cx="4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39d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hich of the following equations is fa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43434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43" name=""/>
          <p:cNvGrpSpPr/>
          <p:nvPr/>
        </p:nvGrpSpPr>
        <p:grpSpPr>
          <a:xfrm>
            <a:off x="1066680" y="2400480"/>
            <a:ext cx="4343400" cy="3442680"/>
            <a:chOff x="1066680" y="2400480"/>
            <a:chExt cx="4343400" cy="3442680"/>
          </a:xfrm>
        </p:grpSpPr>
        <p:sp>
          <p:nvSpPr>
            <p:cNvPr id="544" name="TPAnswers"/>
            <p:cNvSpPr/>
            <p:nvPr/>
          </p:nvSpPr>
          <p:spPr>
            <a:xfrm>
              <a:off x="1066680" y="2400480"/>
              <a:ext cx="4343400" cy="34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t-BR" sz="2400" spc="-1" strike="noStrike" baseline="4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= 5 log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6 – log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3 = log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 =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log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2 + log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5"/>
            <a:stretch/>
          </p:blipFill>
          <p:spPr>
            <a:xfrm>
              <a:off x="1676520" y="4046400"/>
              <a:ext cx="2249280" cy="90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812880" y="1828800"/>
            <a:ext cx="7619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implified expressions and solved equations using properties of logarithms. (Lesson 8–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812880" y="4057560"/>
            <a:ext cx="7619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exponential equations and inequalities using common loga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12880" y="508644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logarithmic expressions using the Change of Base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3:58Z</dcterms:modified>
  <cp:revision>51</cp:revision>
  <dc:subject/>
  <dc:title>Glencoe Algebra 2</dc:title>
</cp:coreProperties>
</file>